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53E85-975D-4FF6-BA89-8D7166593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7B790-C7D2-4F4B-B6B1-6CE4D15D4A1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B6369-74CF-4CEC-9D5C-7186986C9FC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E9C738-2A71-4CE6-89BF-1DEA94ACDBE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F31C55-4AB5-4232-8F5A-382D9FF99EFC}" type="datetime">
              <a:rPr b="0" lang="fr-FR" sz="1200" spc="-1" strike="noStrike">
                <a:solidFill>
                  <a:srgbClr val="000000"/>
                </a:solidFill>
                <a:latin typeface="Times New Roman"/>
                <a:ea typeface="Arial"/>
              </a:rPr>
              <a:t>28/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51B6-913A-4B68-BACD-94B8A654F94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A082E-A59F-40A4-9B63-B3121A822BE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AC6A7-CB2F-44AA-B747-E29864E15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16D0D-F08E-45AB-9AE6-4E83D4A37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86B40-9C93-4539-8046-468D0D686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AD2C1-33B1-47C6-AB02-17F61879A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E3760-4730-414C-9E2D-64D4295BF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4D207-8F33-4853-A358-4E446AD2D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A2E96-622E-4EE7-A880-1F1D4D52A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EA818-CF5E-441C-A21F-61B76AD1F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060F9-4E98-4BA1-A947-8E1A542EB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D4AC1-A718-4360-A60F-CBBCFE18C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9E1CC-74A8-4893-81B0-2086ADBB7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C4E36-ED2E-4AC3-83E5-56842AEF3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4BAE-6B97-4011-BFF1-A6C86295A9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0A9DDA1-DC8C-461E-97D0-503889239BA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A9BB-F8FF-46BF-B4E1-D41C476CFC60}"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09C6-22B7-48A8-83EB-62C12AC2D32F}"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